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C5CC-0707-4695-AC7C-CC9EF31E23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AAFB-0494-4DEE-B07F-DBE6FB082E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4989-9713-465D-A32F-3B9F2802EB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D14F-AE15-4C85-9039-3156E1A5E5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432F-719F-4D03-9955-30CA1C4C99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975E-DBA9-45F7-8C19-42669BAD51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70BA-F6F1-4461-BD15-544106FA2E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2540-406E-469C-8F0E-8D94954799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1657-FB12-436E-BFEA-B85F64421F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B67D-9573-411C-BB93-B733A423FE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0B80-66ED-422E-8371-638B6504D8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7FA5-F2FE-4270-9293-CCB5A9B75D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A870-2F31-45FB-B971-08ABC67C2C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82E6-E4DE-46A4-92BE-77CD3B1097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1CAB-83F1-4050-AD2A-436752996B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D14B-3FAC-481A-BE9A-1F66A9C37D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8DDE-04DC-475D-8B70-7C20A06873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C526-9FF7-44F9-9252-936ADE16DC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1009-C30B-4D65-A644-936DAEB702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AD20-4CE4-4303-BE79-77FFAF3828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4F49-3BFF-44DB-B86D-57BA66E477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B442-0274-4798-A08A-B3A218920D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0C87-CB0A-4764-9E19-97278E6C80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04DD-D403-47D8-AD05-5085ECE7F8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2EA5-BA7B-4AC5-A434-AC09763689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4268-8246-40DD-9718-B7F0431744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DF39-67FF-4260-93C4-BD0E2FE0ED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DB9B-AADC-48AA-A4D5-729C80B904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747F-81F6-4C07-A307-0F04E2E9E6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0011-91D4-4DEF-9DF7-08FFFBC38A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ED79-A479-427A-B739-9991A2D3202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B997-78D3-4685-9503-EE42C1A1B6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52D6-0955-4C16-9183-0141497324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79EE-3406-4E42-88E2-F128D1511E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AF41-FED5-4DFC-8671-FB3B600900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1ADF-7C4E-48E5-AACC-74F27E7291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A21D-0204-4EB2-9174-FDCF743350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E0B8-3FDB-44E4-A606-D59EAA8344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00E5-2954-40BE-AF38-16B4CBC250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1F90-28D0-4F07-AB3B-0C996CF167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45A-D3CF-405F-B775-FB2FE654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769-463B-4165-BB8D-EF9BC9EB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361-B1E1-4D74-93BF-EF401580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C43-8070-4419-8EB1-C99729BB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715-7AAB-46A7-9951-EAADE932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43F-8248-4775-AA87-465AF4CA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B51-C631-4227-8B85-EBC43795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0FA-863C-4996-80B9-8F3E9465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5A5-5D5B-4A14-8516-F5D12D50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DA3-F34C-4763-8CBB-EB94B0BB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423-06AA-4C90-91C5-BB6DCC5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D38-6BBB-43D2-B0E6-B4BB03F7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6E91-4360-4410-9B5C-F09B0F20E399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하려고 하다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원하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衣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f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옷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uā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쌍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신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á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장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裤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ù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바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장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i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本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ěn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공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b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책가방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钱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服务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fúwùyuá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종업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백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10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너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비싸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便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iány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값이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싸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怎么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728760"/>
            <a:ext cx="62643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</a:rPr>
              <a:t>zěnmeyàng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때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자루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圆珠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yuánzhūbǐ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볼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18328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위안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á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18328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마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18328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자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화폐 단위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裙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ún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치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ǎ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짧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袜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wà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ě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권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黑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is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검은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huángsè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란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천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1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zh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할인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旗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ípá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317920"/>
            <a:ext cx="638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치파오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5000" spc="-1" strike="noStrike">
                <a:solidFill>
                  <a:srgbClr val="000000"/>
                </a:solidFill>
                <a:latin typeface="Arial"/>
              </a:rPr>
              <a:t>중국전통의상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áns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색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红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óngs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빨간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마시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15920" y="46836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面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miànbā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6:53:48Z</dcterms:created>
  <dc:creator>System</dc:creator>
  <dc:description/>
  <dc:language>en-US</dc:language>
  <cp:lastModifiedBy>System</cp:lastModifiedBy>
  <dcterms:modified xsi:type="dcterms:W3CDTF">2014-01-24T07:56:08Z</dcterms:modified>
  <cp:revision>7</cp:revision>
  <dc:subject/>
  <dc:title>슬라이드 1</dc:title>
</cp:coreProperties>
</file>